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260-DF82-437E-9095-6C00C8F5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A36D-BBD9-4FBC-932A-69E8AA19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A2F-E916-49FC-883B-B77668E8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E94-60F7-4689-A7D6-6F5516DA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94383-1546-4443-8371-34298FBD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063D6-2E1F-4417-B171-EF6114CF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76EB6-3363-4319-ABA7-855DD34F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9D2C4-81D3-4C51-9E1A-352C8512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20937-01D6-45C2-981A-D5EC2F84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10D69-D288-4D19-ACEB-44E576B3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98074-F22A-45EC-9A98-76932B79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B94-9FEF-4268-A8D9-FE17C550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60825-7A4C-4350-A143-48D62434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9FCCB-B941-4724-BC2C-809FDAC5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EEEC7-0B6C-4808-A971-6B0AA655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A9C0B-552F-4251-BE69-FF4F0789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5C252-2D39-4D82-9FD8-694DD817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1295-AA17-4F31-A41A-63804767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3354-CFFE-4345-B667-953EA0F4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B143-868A-4BBD-813A-44D85D46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2900-AA42-41AB-9F72-3A6B5803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7B09-E7E8-4CEA-A720-B732051E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6055-AF56-41C8-B8DC-96F47D52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D6F1-D964-4695-B274-FFD83D5A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62B1-0F64-4D2C-8562-2C58E8DA7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6C28-C37D-40F4-9F95-886705C63E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erman Melville 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oby Dic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can get nothing better out of the world, get a good dinner out of it, at leas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9" descr="mh9-sperm_whales_underwater_brandon_cole"/>
          <p:cNvPicPr/>
          <p:nvPr/>
        </p:nvPicPr>
        <p:blipFill>
          <a:blip r:embed="rId1"/>
          <a:stretch/>
        </p:blipFill>
        <p:spPr>
          <a:xfrm>
            <a:off x="1219320" y="2286000"/>
            <a:ext cx="6781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rgo…Final Journal Ques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our reading, Captain Ahab gives a impassioned speech about the whale and convinces the crew to follow him on this mad quest for revenge, why do they go alo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 do rational people follow irrational lead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rk Citi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www.melville.org/hmquotes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kirjasto.sci.fi/melville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www.online-literature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school.discoveryeducation.com/lessonplans/programs/greatbooks-mobydick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First Journal: Obsessio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ave you ever been obsessed about something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n define what obsession is to you or the difference between obsession and compulsion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outh Dakota Gem Ston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Fairburn Ag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erman Melvill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August 1, 1819 – September 28, 1891)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hird of eight children of Allan and Maria Gansevoort Melvil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 father died when Herman was 12 leaving the family in financial hardsh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worked as a surveyor for the Eerie canal and as a school teacher before becoming a cabin boy in 1939 and joining the whaler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cushn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January 3, 1841 in New Bedford Ma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 years at sea are the basis for the novels: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ype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Omo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oby Dic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lville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847 Melville married Elisabeth Shaw, daughter of the chief justice of Massachusett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three years in New York, he bought a farm, "Arrowhead", near Nathaniel Hawthorne's home at Pittsfield, Massachuset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of Melville's sources was an article by Jeremiah N. Reynolds, entitled 'Mocha Dick: Or, the White Whale of the Pacific' (1839). It told about an albino sperm whale, which was said to have sunk ships, drowned men, and harpooned many tim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wthorne encouraged him to change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rom a story full of details about whaling, into an allegorical nove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lville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lville's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as largely misunderstood and it sold only some 3,000 copies during his lifetime. Its original title was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he Wha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when it was published in London in October 185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891, Melville died never gaining the monetary or literary fame he thought he deserv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1920’s, Melville’s writing is re-discovered by literary scholars and he is finally recognized as one of America’s finest write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s of Conflict in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Moby Dic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 vs. Na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d vs. S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 vs. Ma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 vs. Him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 vs. Socie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 vs. Go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cience of Confli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gelian Dialectic: Euripides and Olympus vs. Huma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ience: matter vs. anti-matter proton vs. electr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h: positive and negative integ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ilosophy: Ying and Yang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ety: proletariat vs. bourgeoi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etarily: hard currency vs. fiat curre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ry: protagonist vs. antagon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4:45:26Z</dcterms:created>
  <dc:creator>home</dc:creator>
  <dc:description/>
  <dc:language>en-US</dc:language>
  <cp:lastModifiedBy>ITS</cp:lastModifiedBy>
  <dcterms:modified xsi:type="dcterms:W3CDTF">2009-04-07T00:41:52Z</dcterms:modified>
  <cp:revision>7</cp:revision>
  <dc:subject/>
  <dc:title>Herman Melville  Moby Dick</dc:title>
</cp:coreProperties>
</file>